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C55-6442-4F15-93B8-7752B0A9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5D7-1FC3-4494-98B1-F769C3CD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409-1306-4FCF-A22F-17DE86C7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307-5E33-4FDF-885E-18B4CD7C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897-8129-44BA-9351-A68B6772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89E-D664-4AF7-961E-0673CF3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BD5-2109-4DD1-AB80-C4A32D98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B27-74EF-45C4-8ADC-3CBB0680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0CB-F53F-443A-B048-4295921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B9D-CF47-4E3D-A815-2EDC22C9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8FE-105B-41B6-ADB4-501ADAA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1AA-DBB1-4EC6-A0DE-094245E1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2966-93EE-4E47-8289-AE6F50BDB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ber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A53-CD98-4D4B-9BD7-5234C83800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of 85 Competitive Retailers Reported Numbers by the due date for September (10/04/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out of 85 CR are filing Non-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8 out of 85 CR are filing 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November RMS (October Reports) are due by November 2,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for next mon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Rs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168-62A1-4371-9BF5-C6E58F0162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371600"/>
          <a:ext cx="8533800" cy="4800240"/>
        </p:xfrm>
        <a:graphic>
          <a:graphicData uri="http://schemas.openxmlformats.org/drawingml/2006/table">
            <a:tbl>
              <a:tblPr/>
              <a:tblGrid>
                <a:gridCol w="2387880"/>
                <a:gridCol w="1614240"/>
                <a:gridCol w="1643400"/>
                <a:gridCol w="1445400"/>
                <a:gridCol w="144288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,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,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,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AFA-42CD-4B22-ACA5-B01AD8E4D6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371600"/>
          <a:ext cx="8533800" cy="4800240"/>
        </p:xfrm>
        <a:graphic>
          <a:graphicData uri="http://schemas.openxmlformats.org/drawingml/2006/table">
            <a:tbl>
              <a:tblPr/>
              <a:tblGrid>
                <a:gridCol w="2387880"/>
                <a:gridCol w="1614240"/>
                <a:gridCol w="1643400"/>
                <a:gridCol w="1445400"/>
                <a:gridCol w="144288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A76-63A1-4DB5-8D10-272863F1A1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533800" cy="4800240"/>
        </p:xfrm>
        <a:graphic>
          <a:graphicData uri="http://schemas.openxmlformats.org/drawingml/2006/table">
            <a:tbl>
              <a:tblPr/>
              <a:tblGrid>
                <a:gridCol w="2387880"/>
                <a:gridCol w="1614240"/>
                <a:gridCol w="1643400"/>
                <a:gridCol w="1445400"/>
                <a:gridCol w="144288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,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D20-7B32-43E2-8D16-45F4A06C5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371600"/>
          <a:ext cx="8533800" cy="4800240"/>
        </p:xfrm>
        <a:graphic>
          <a:graphicData uri="http://schemas.openxmlformats.org/drawingml/2006/table">
            <a:tbl>
              <a:tblPr/>
              <a:tblGrid>
                <a:gridCol w="2387880"/>
                <a:gridCol w="1614240"/>
                <a:gridCol w="1643400"/>
                <a:gridCol w="1445400"/>
                <a:gridCol w="144288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6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9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,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682-EAC7-4BDE-AF4D-056E6719C7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371600"/>
          <a:ext cx="8457840" cy="472392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7B7-A900-4C7A-97D5-67F6C6166C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371600"/>
          <a:ext cx="8610120" cy="472392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E77-FFF2-47CC-BE5A-9362634131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nt</cp:lastModifiedBy>
  <cp:lastPrinted>2002-09-24T18:27:58Z</cp:lastPrinted>
  <dcterms:modified xsi:type="dcterms:W3CDTF">2004-10-14T13:38:50Z</dcterms:modified>
  <cp:revision>276</cp:revision>
  <dc:subject/>
  <dc:title>PowerPoint Presentation</dc:title>
</cp:coreProperties>
</file>